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3860-17F9-4CF7-B976-CD14D77F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5494-AC2C-489E-A484-AB2CB468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6521-660D-4BEE-84D8-646447EA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C12-FE47-41DF-BA74-E0906B75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A69C-6172-4BB6-A741-ED8AC144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0A7D-1A48-4895-BD71-113F2D57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0F24-C8CF-47C6-85BC-35088FDD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1EEF-56B8-45E3-8AD7-FFF8E286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0322-281E-492E-A16A-31EB535F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FD5B-A679-4F70-913D-CEBDD88C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3AB1-F443-4235-AE4C-07E33637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4C3-AD4F-49F6-BA37-F849E2E5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762A-FDAF-4BAE-BC4C-1DFFC32D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18FF-5056-4317-BF3C-16DA4935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BC4D-F79F-46C4-8D42-E9AB6ED9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5BF7-CEB1-4A8F-B58F-139D121A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F19B-0869-4905-82AC-C459A2A3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251-8683-417E-A660-524B7462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716-D1AB-4F56-A9FB-3A4743A1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9CC-2BCE-4BDB-BCA1-008FAD1C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53CF-157D-4AED-992F-F9067A44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471-5E1C-4511-97D8-872760BA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952-B792-4F6A-BC3D-871C2F0F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780-F7E5-4D4C-B6F0-E2F0744D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E27A-A0DD-47DF-9B50-537472AB7C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0A21-F410-4685-95FC-B289747772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Genesis 25:19 – 28:9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Key Poi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th of Jacob and Es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usual Circumstances: The Answered Prayer of Rebekah, And The Prophecy of Two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ot of Jacob To Take Esau’s Birthr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eakness of Esau In Giving It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Key Poi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aac And Abimel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au Grieves Isaac and Rebekah By Intermarrying With Hitt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bekah Helps Jacob Trick Isaac Into Giving The Inheritance Rights To Jacob Instead of Es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ob Fled For His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17:09:27Z</dcterms:created>
  <dc:creator>Terry W. Benton</dc:creator>
  <dc:description/>
  <dc:language>en-US</dc:language>
  <cp:lastModifiedBy>Terry W. Benton</cp:lastModifiedBy>
  <dcterms:modified xsi:type="dcterms:W3CDTF">2004-08-29T04:58:29Z</dcterms:modified>
  <cp:revision>3</cp:revision>
  <dc:subject/>
  <dc:title>Genesis 25:19 – 28:9</dc:title>
</cp:coreProperties>
</file>